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4.jpeg" ContentType="image/jpeg"/>
  <Override PartName="/ppt/media/image2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5.jpeg" ContentType="image/jpeg"/>
  <Override PartName="/ppt/media/image12.pct" ContentType="image/x-pict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e group to talk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st think about how to respond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e too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uld compare to wholes 2/5 vs 2.5/6 = 5/12  or could argue put in 25% more yellow but only 17% more blu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will actually see a variation of this problem later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e group to talk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st think about how to respond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e too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alk about how the problems you tried related to pr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aseball bat and scissors, spinner, paint can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r every 6 shapes, 4 are triangl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shapes if 12 are triangles?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r every 6 shapes, 4 are triangl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shapes if 12 are triangles?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W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triangles if 12 shap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rawing avoids thi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time, imagine 4 triangles for every 6 shapes; asking how many triangles for 12 shap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mparing 4 to 18 by dividing just like, in the last slide we compared 6 to 12 by divid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time, imagine 4 triangles for every 8 shapes and you have 12 shapes and want to know how many triangl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time compared 4 to $10 to get unit price or recognize that 10 is 2.5 x 4 and then use same relationship on other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r every 6 shapes, there are 4 triangl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triangles if 21 shap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blem is 4 triangles in every 6 shap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triangles for 21 shap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would baby bear’s lunch look like?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how important array is to show that 4/5 = 8/10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 obvious at all ; it is less not because there is less stuff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ven misleading; some see 1 blue for 4 stars vs 1 blue for 9 stars and don’t know what to do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econd picture is more “starry”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ample of an interesting proportional reasoning Fermi problem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lve by sampling which is where the proportion stuff comes i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 think every Fermi problem solved by sampling is about proportional reason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rmal bat is 83 cm  and normal scissors is about 20 cm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e group to talk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st think about how to respond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85 cm longer; almost twice; more than half; only double vs around 4 tim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.g. 5/10 red and 2/10 blue and 3/10 yellow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ither 4 or 5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2.pct"/><Relationship Id="rId14" Type="http://schemas.openxmlformats.org/officeDocument/2006/relationships/image" Target="../media/image13.pct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39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61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portional Reasoning:  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it Is and Isn’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69720" y="558792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Gill Sans"/>
              </a:rPr>
              <a:t>plenary 1</a:t>
            </a:r>
            <a:endParaRPr b="0" lang="en-US" sz="51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2"/>
          <a:stretch/>
        </p:blipFill>
        <p:spPr>
          <a:xfrm>
            <a:off x="10883880" y="7645320"/>
            <a:ext cx="212076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" descr=""/>
          <p:cNvPicPr/>
          <p:nvPr/>
        </p:nvPicPr>
        <p:blipFill>
          <a:blip r:embed="rId2"/>
          <a:stretch/>
        </p:blipFill>
        <p:spPr>
          <a:xfrm>
            <a:off x="4444920" y="2540160"/>
            <a:ext cx="412776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142640" y="-34308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ixing colour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679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81920" indent="-502560">
              <a:lnSpc>
                <a:spcPct val="2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"/>
              </a:rPr>
              <a:t>Jane 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  <a:p>
            <a:pPr marL="781920" indent="-502560">
              <a:lnSpc>
                <a:spcPct val="2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"/>
              </a:rPr>
              <a:t>Lianne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  <a:p>
            <a:pPr marL="781920" indent="-502560">
              <a:lnSpc>
                <a:spcPct val="2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Gill Sans"/>
              </a:rPr>
              <a:t>same shade?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  <a:p>
            <a:pPr marL="781920" indent="-502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Gill Sans"/>
              </a:rPr>
              <a:t>Explain.</a:t>
            </a:r>
            <a:endParaRPr b="0" lang="en-US" sz="51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4775040" y="1917720"/>
            <a:ext cx="1409760" cy="154944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2"/>
          <a:stretch/>
        </p:blipFill>
        <p:spPr>
          <a:xfrm>
            <a:off x="6012000" y="4788000"/>
            <a:ext cx="1244520" cy="94752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3"/>
          <a:stretch/>
        </p:blipFill>
        <p:spPr>
          <a:xfrm>
            <a:off x="9702720" y="2082960"/>
            <a:ext cx="1320840" cy="140940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4"/>
          <a:stretch/>
        </p:blipFill>
        <p:spPr>
          <a:xfrm>
            <a:off x="10807560" y="4851360"/>
            <a:ext cx="1295640" cy="84312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5"/>
          <a:stretch/>
        </p:blipFill>
        <p:spPr>
          <a:xfrm>
            <a:off x="3517920" y="1917720"/>
            <a:ext cx="1409760" cy="154944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6"/>
          <a:stretch/>
        </p:blipFill>
        <p:spPr>
          <a:xfrm>
            <a:off x="4775040" y="4280040"/>
            <a:ext cx="1409760" cy="154944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7"/>
          <a:stretch/>
        </p:blipFill>
        <p:spPr>
          <a:xfrm>
            <a:off x="3530520" y="4280040"/>
            <a:ext cx="1409760" cy="154944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/>
          <p:cNvPicPr/>
          <p:nvPr/>
        </p:nvPicPr>
        <p:blipFill>
          <a:blip r:embed="rId8"/>
          <a:stretch/>
        </p:blipFill>
        <p:spPr>
          <a:xfrm>
            <a:off x="7188120" y="2082960"/>
            <a:ext cx="1320840" cy="1409400"/>
          </a:xfrm>
          <a:prstGeom prst="rect">
            <a:avLst/>
          </a:prstGeom>
          <a:ln w="0">
            <a:noFill/>
          </a:ln>
        </p:spPr>
      </p:pic>
      <p:pic>
        <p:nvPicPr>
          <p:cNvPr id="1094" name="" descr=""/>
          <p:cNvPicPr/>
          <p:nvPr/>
        </p:nvPicPr>
        <p:blipFill>
          <a:blip r:embed="rId9"/>
          <a:stretch/>
        </p:blipFill>
        <p:spPr>
          <a:xfrm>
            <a:off x="8445600" y="2082960"/>
            <a:ext cx="1320840" cy="140940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10"/>
          <a:stretch/>
        </p:blipFill>
        <p:spPr>
          <a:xfrm>
            <a:off x="8458200" y="4406760"/>
            <a:ext cx="1320840" cy="140976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11"/>
          <a:stretch/>
        </p:blipFill>
        <p:spPr>
          <a:xfrm>
            <a:off x="7213680" y="4406760"/>
            <a:ext cx="1320840" cy="14097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12"/>
          <a:stretch/>
        </p:blipFill>
        <p:spPr>
          <a:xfrm>
            <a:off x="9702720" y="4406760"/>
            <a:ext cx="1320840" cy="140976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4133520" y="3333600"/>
            <a:ext cx="13219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  <a:ea typeface="Gill Sans"/>
              </a:rPr>
              <a:t>2 cans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9" name=""/>
          <p:cNvSpPr/>
          <p:nvPr/>
        </p:nvSpPr>
        <p:spPr>
          <a:xfrm>
            <a:off x="8453880" y="3339720"/>
            <a:ext cx="13219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  <a:ea typeface="Gill Sans"/>
              </a:rPr>
              <a:t>3 cans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0" name=""/>
          <p:cNvSpPr/>
          <p:nvPr/>
        </p:nvSpPr>
        <p:spPr>
          <a:xfrm>
            <a:off x="4043880" y="5803560"/>
            <a:ext cx="1785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  <a:ea typeface="Gill Sans"/>
              </a:rPr>
              <a:t>2     cans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13"/>
          <a:stretch/>
        </p:blipFill>
        <p:spPr>
          <a:xfrm>
            <a:off x="6451560" y="4800600"/>
            <a:ext cx="152280" cy="39384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14"/>
          <a:stretch/>
        </p:blipFill>
        <p:spPr>
          <a:xfrm>
            <a:off x="8763120" y="5727600"/>
            <a:ext cx="291960" cy="83844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15"/>
          <a:stretch/>
        </p:blipFill>
        <p:spPr>
          <a:xfrm>
            <a:off x="4394160" y="5715000"/>
            <a:ext cx="292320" cy="83808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8380080" y="5879880"/>
            <a:ext cx="1785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"/>
                <a:ea typeface="Gill Sans"/>
              </a:rPr>
              <a:t>3     cans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2"/>
          <a:stretch/>
        </p:blipFill>
        <p:spPr>
          <a:xfrm>
            <a:off x="4444920" y="2540160"/>
            <a:ext cx="412776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portional reason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269720" y="11044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d90b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0b00"/>
                </a:solidFill>
                <a:latin typeface="Gill Sans"/>
              </a:rPr>
              <a:t>deliberate use of multiplicative relationships 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to </a:t>
            </a:r>
            <a:r>
              <a:rPr b="1" lang="en-US" sz="4800" spc="-1" strike="noStrike">
                <a:solidFill>
                  <a:srgbClr val="ff0000"/>
                </a:solidFill>
                <a:latin typeface="Gill Sans"/>
              </a:rPr>
              <a:t>compare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  and to </a:t>
            </a:r>
            <a:r>
              <a:rPr b="1" lang="en-US" sz="4800" spc="-1" strike="noStrike">
                <a:solidFill>
                  <a:srgbClr val="d90b00"/>
                </a:solidFill>
                <a:latin typeface="Gill Sans"/>
              </a:rPr>
              <a:t>predict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" descr=""/>
          <p:cNvPicPr/>
          <p:nvPr/>
        </p:nvPicPr>
        <p:blipFill>
          <a:blip r:embed="rId2"/>
          <a:stretch/>
        </p:blipFill>
        <p:spPr>
          <a:xfrm>
            <a:off x="16116480" y="2654280"/>
            <a:ext cx="3797280" cy="378468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3"/>
          <a:stretch/>
        </p:blipFill>
        <p:spPr>
          <a:xfrm>
            <a:off x="15405120" y="3746520"/>
            <a:ext cx="3771720" cy="374652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/>
          <p:cNvPicPr/>
          <p:nvPr/>
        </p:nvPicPr>
        <p:blipFill>
          <a:blip r:embed="rId4"/>
          <a:stretch/>
        </p:blipFill>
        <p:spPr>
          <a:xfrm>
            <a:off x="4444920" y="2540160"/>
            <a:ext cx="412776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dditive approach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2" name=""/>
          <p:cNvSpPr/>
          <p:nvPr/>
        </p:nvSpPr>
        <p:spPr>
          <a:xfrm>
            <a:off x="851040" y="2603520"/>
            <a:ext cx="1269720" cy="127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10800" y="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3" name=""/>
          <p:cNvSpPr/>
          <p:nvPr/>
        </p:nvSpPr>
        <p:spPr>
          <a:xfrm>
            <a:off x="2247840" y="2603520"/>
            <a:ext cx="1270080" cy="127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10800" y="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4" name=""/>
          <p:cNvSpPr/>
          <p:nvPr/>
        </p:nvSpPr>
        <p:spPr>
          <a:xfrm>
            <a:off x="851040" y="3975120"/>
            <a:ext cx="1269720" cy="127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10800" y="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5" name=""/>
          <p:cNvSpPr/>
          <p:nvPr/>
        </p:nvSpPr>
        <p:spPr>
          <a:xfrm>
            <a:off x="2362320" y="3975120"/>
            <a:ext cx="1269720" cy="127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10800" y="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6" name=""/>
          <p:cNvSpPr/>
          <p:nvPr/>
        </p:nvSpPr>
        <p:spPr>
          <a:xfrm>
            <a:off x="3987720" y="2603520"/>
            <a:ext cx="1270080" cy="1270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7757" y="3843"/>
                </a:moveTo>
                <a:cubicBezTo>
                  <a:pt x="21600" y="7685"/>
                  <a:pt x="21600" y="13915"/>
                  <a:pt x="17757" y="17757"/>
                </a:cubicBezTo>
                <a:cubicBezTo>
                  <a:pt x="13915" y="21600"/>
                  <a:pt x="7685" y="21600"/>
                  <a:pt x="3843" y="17757"/>
                </a:cubicBezTo>
                <a:cubicBezTo>
                  <a:pt x="0" y="13915"/>
                  <a:pt x="0" y="7685"/>
                  <a:pt x="3843" y="3843"/>
                </a:cubicBezTo>
                <a:cubicBezTo>
                  <a:pt x="7685" y="0"/>
                  <a:pt x="13915" y="0"/>
                  <a:pt x="17757" y="3843"/>
                </a:cubicBezTo>
                <a:close/>
                <a:moveTo>
                  <a:pt x="17757" y="3843"/>
                </a:moveTo>
              </a:path>
            </a:pathLst>
          </a:cu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7" name=""/>
          <p:cNvSpPr/>
          <p:nvPr/>
        </p:nvSpPr>
        <p:spPr>
          <a:xfrm>
            <a:off x="3987720" y="4102200"/>
            <a:ext cx="1270080" cy="1270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7757" y="3843"/>
                </a:moveTo>
                <a:cubicBezTo>
                  <a:pt x="21600" y="7685"/>
                  <a:pt x="21600" y="13915"/>
                  <a:pt x="17757" y="17757"/>
                </a:cubicBezTo>
                <a:cubicBezTo>
                  <a:pt x="13915" y="21600"/>
                  <a:pt x="7685" y="21600"/>
                  <a:pt x="3843" y="17757"/>
                </a:cubicBezTo>
                <a:cubicBezTo>
                  <a:pt x="0" y="13915"/>
                  <a:pt x="0" y="7685"/>
                  <a:pt x="3843" y="3843"/>
                </a:cubicBezTo>
                <a:cubicBezTo>
                  <a:pt x="7685" y="0"/>
                  <a:pt x="13915" y="0"/>
                  <a:pt x="17757" y="3843"/>
                </a:cubicBezTo>
                <a:close/>
                <a:moveTo>
                  <a:pt x="17757" y="3843"/>
                </a:moveTo>
              </a:path>
            </a:pathLst>
          </a:cu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622440" y="812880"/>
            <a:ext cx="1269720" cy="1270080"/>
          </a:xfrm>
          <a:prstGeom prst="triangle">
            <a:avLst>
              <a:gd name="adj" fmla="val 50000"/>
            </a:avLst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9" name=""/>
          <p:cNvSpPr/>
          <p:nvPr/>
        </p:nvSpPr>
        <p:spPr>
          <a:xfrm>
            <a:off x="2019240" y="812880"/>
            <a:ext cx="1270080" cy="1270080"/>
          </a:xfrm>
          <a:prstGeom prst="triangle">
            <a:avLst>
              <a:gd name="adj" fmla="val 50000"/>
            </a:avLst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0" name=""/>
          <p:cNvSpPr/>
          <p:nvPr/>
        </p:nvSpPr>
        <p:spPr>
          <a:xfrm>
            <a:off x="622440" y="2184480"/>
            <a:ext cx="1269720" cy="1270080"/>
          </a:xfrm>
          <a:prstGeom prst="triangle">
            <a:avLst>
              <a:gd name="adj" fmla="val 50000"/>
            </a:avLst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184480"/>
            <a:ext cx="1269720" cy="1270080"/>
          </a:xfrm>
          <a:prstGeom prst="triangle">
            <a:avLst>
              <a:gd name="adj" fmla="val 50000"/>
            </a:avLst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2" name=""/>
          <p:cNvSpPr/>
          <p:nvPr/>
        </p:nvSpPr>
        <p:spPr>
          <a:xfrm>
            <a:off x="3759120" y="812880"/>
            <a:ext cx="1270080" cy="1270080"/>
          </a:xfrm>
          <a:prstGeom prst="ellipse">
            <a:avLst/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3" name=""/>
          <p:cNvSpPr/>
          <p:nvPr/>
        </p:nvSpPr>
        <p:spPr>
          <a:xfrm>
            <a:off x="3759120" y="2311560"/>
            <a:ext cx="1270080" cy="1269720"/>
          </a:xfrm>
          <a:prstGeom prst="ellipse">
            <a:avLst/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4" name=""/>
          <p:cNvSpPr/>
          <p:nvPr/>
        </p:nvSpPr>
        <p:spPr>
          <a:xfrm>
            <a:off x="7327800" y="2019240"/>
            <a:ext cx="1270080" cy="1270080"/>
          </a:xfrm>
          <a:prstGeom prst="triangle">
            <a:avLst>
              <a:gd name="adj" fmla="val 50000"/>
            </a:avLst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5" name=""/>
          <p:cNvSpPr/>
          <p:nvPr/>
        </p:nvSpPr>
        <p:spPr>
          <a:xfrm>
            <a:off x="8724960" y="2019240"/>
            <a:ext cx="1270080" cy="1270080"/>
          </a:xfrm>
          <a:prstGeom prst="triangle">
            <a:avLst>
              <a:gd name="adj" fmla="val 50000"/>
            </a:avLst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6" name=""/>
          <p:cNvSpPr/>
          <p:nvPr/>
        </p:nvSpPr>
        <p:spPr>
          <a:xfrm>
            <a:off x="7327800" y="3390840"/>
            <a:ext cx="1270080" cy="1270080"/>
          </a:xfrm>
          <a:prstGeom prst="triangle">
            <a:avLst>
              <a:gd name="adj" fmla="val 50000"/>
            </a:avLst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7" name=""/>
          <p:cNvSpPr/>
          <p:nvPr/>
        </p:nvSpPr>
        <p:spPr>
          <a:xfrm>
            <a:off x="8839080" y="3390840"/>
            <a:ext cx="1270080" cy="1270080"/>
          </a:xfrm>
          <a:prstGeom prst="triangle">
            <a:avLst>
              <a:gd name="adj" fmla="val 50000"/>
            </a:avLst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8" name=""/>
          <p:cNvSpPr/>
          <p:nvPr/>
        </p:nvSpPr>
        <p:spPr>
          <a:xfrm>
            <a:off x="10464840" y="2019240"/>
            <a:ext cx="1270080" cy="1270080"/>
          </a:xfrm>
          <a:prstGeom prst="ellipse">
            <a:avLst/>
          </a:prstGeom>
          <a:solidFill>
            <a:srgbClr val="b31a22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9" name=""/>
          <p:cNvSpPr/>
          <p:nvPr/>
        </p:nvSpPr>
        <p:spPr>
          <a:xfrm>
            <a:off x="10464840" y="3517920"/>
            <a:ext cx="1270080" cy="1270080"/>
          </a:xfrm>
          <a:prstGeom prst="ellipse">
            <a:avLst/>
          </a:prstGeom>
          <a:solidFill>
            <a:srgbClr val="b31a22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0" name=""/>
          <p:cNvSpPr/>
          <p:nvPr/>
        </p:nvSpPr>
        <p:spPr>
          <a:xfrm>
            <a:off x="12877920" y="1434960"/>
            <a:ext cx="1269720" cy="127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1" name=""/>
          <p:cNvSpPr/>
          <p:nvPr/>
        </p:nvSpPr>
        <p:spPr>
          <a:xfrm>
            <a:off x="15202080" y="1434960"/>
            <a:ext cx="1269720" cy="127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2" name=""/>
          <p:cNvSpPr/>
          <p:nvPr/>
        </p:nvSpPr>
        <p:spPr>
          <a:xfrm>
            <a:off x="13804920" y="2806560"/>
            <a:ext cx="1270080" cy="127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3" name=""/>
          <p:cNvSpPr/>
          <p:nvPr/>
        </p:nvSpPr>
        <p:spPr>
          <a:xfrm>
            <a:off x="15316200" y="2806560"/>
            <a:ext cx="1270080" cy="127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4" name=""/>
          <p:cNvSpPr/>
          <p:nvPr/>
        </p:nvSpPr>
        <p:spPr>
          <a:xfrm>
            <a:off x="16941960" y="1434960"/>
            <a:ext cx="1269720" cy="12700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5" name=""/>
          <p:cNvSpPr/>
          <p:nvPr/>
        </p:nvSpPr>
        <p:spPr>
          <a:xfrm>
            <a:off x="16941960" y="2933640"/>
            <a:ext cx="1269720" cy="12700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6" name=""/>
          <p:cNvSpPr/>
          <p:nvPr/>
        </p:nvSpPr>
        <p:spPr>
          <a:xfrm>
            <a:off x="12877920" y="851040"/>
            <a:ext cx="1269720" cy="1269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7" name=""/>
          <p:cNvSpPr/>
          <p:nvPr/>
        </p:nvSpPr>
        <p:spPr>
          <a:xfrm>
            <a:off x="21678840" y="851040"/>
            <a:ext cx="1270080" cy="1269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8" name=""/>
          <p:cNvSpPr/>
          <p:nvPr/>
        </p:nvSpPr>
        <p:spPr>
          <a:xfrm>
            <a:off x="20282040" y="2222640"/>
            <a:ext cx="1269720" cy="1269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9" name=""/>
          <p:cNvSpPr/>
          <p:nvPr/>
        </p:nvSpPr>
        <p:spPr>
          <a:xfrm>
            <a:off x="21793320" y="2222640"/>
            <a:ext cx="1269720" cy="1269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0" name=""/>
          <p:cNvSpPr/>
          <p:nvPr/>
        </p:nvSpPr>
        <p:spPr>
          <a:xfrm>
            <a:off x="23418720" y="851040"/>
            <a:ext cx="1270080" cy="126972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1" name=""/>
          <p:cNvSpPr/>
          <p:nvPr/>
        </p:nvSpPr>
        <p:spPr>
          <a:xfrm>
            <a:off x="23418720" y="2349360"/>
            <a:ext cx="1270080" cy="12700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2" name=""/>
          <p:cNvSpPr/>
          <p:nvPr/>
        </p:nvSpPr>
        <p:spPr>
          <a:xfrm>
            <a:off x="12877920" y="266760"/>
            <a:ext cx="1269720" cy="127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3" name=""/>
          <p:cNvSpPr/>
          <p:nvPr/>
        </p:nvSpPr>
        <p:spPr>
          <a:xfrm>
            <a:off x="20751840" y="266760"/>
            <a:ext cx="1270080" cy="127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4" name=""/>
          <p:cNvSpPr/>
          <p:nvPr/>
        </p:nvSpPr>
        <p:spPr>
          <a:xfrm>
            <a:off x="19354680" y="1638360"/>
            <a:ext cx="1270080" cy="127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5" name=""/>
          <p:cNvSpPr/>
          <p:nvPr/>
        </p:nvSpPr>
        <p:spPr>
          <a:xfrm>
            <a:off x="20865960" y="1638360"/>
            <a:ext cx="1270080" cy="127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6" name=""/>
          <p:cNvSpPr/>
          <p:nvPr/>
        </p:nvSpPr>
        <p:spPr>
          <a:xfrm>
            <a:off x="22491720" y="266760"/>
            <a:ext cx="1270080" cy="12700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7" name=""/>
          <p:cNvSpPr/>
          <p:nvPr/>
        </p:nvSpPr>
        <p:spPr>
          <a:xfrm>
            <a:off x="22491720" y="1765440"/>
            <a:ext cx="1270080" cy="126972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8" name=""/>
          <p:cNvSpPr/>
          <p:nvPr/>
        </p:nvSpPr>
        <p:spPr>
          <a:xfrm>
            <a:off x="12877920" y="-317520"/>
            <a:ext cx="1269720" cy="127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9" name=""/>
          <p:cNvSpPr/>
          <p:nvPr/>
        </p:nvSpPr>
        <p:spPr>
          <a:xfrm>
            <a:off x="20751840" y="-317520"/>
            <a:ext cx="1270080" cy="127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0" name=""/>
          <p:cNvSpPr/>
          <p:nvPr/>
        </p:nvSpPr>
        <p:spPr>
          <a:xfrm>
            <a:off x="19354680" y="1054080"/>
            <a:ext cx="1270080" cy="127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1" name=""/>
          <p:cNvSpPr/>
          <p:nvPr/>
        </p:nvSpPr>
        <p:spPr>
          <a:xfrm>
            <a:off x="20865960" y="1054080"/>
            <a:ext cx="1270080" cy="1270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2" name=""/>
          <p:cNvSpPr/>
          <p:nvPr/>
        </p:nvSpPr>
        <p:spPr>
          <a:xfrm>
            <a:off x="22491720" y="-317520"/>
            <a:ext cx="1270080" cy="12700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3" name=""/>
          <p:cNvSpPr/>
          <p:nvPr/>
        </p:nvSpPr>
        <p:spPr>
          <a:xfrm>
            <a:off x="22491720" y="1181160"/>
            <a:ext cx="1270080" cy="12700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4" name=""/>
          <p:cNvSpPr/>
          <p:nvPr/>
        </p:nvSpPr>
        <p:spPr>
          <a:xfrm>
            <a:off x="1828800" y="4000680"/>
            <a:ext cx="1270080" cy="1269720"/>
          </a:xfrm>
          <a:prstGeom prst="triangle">
            <a:avLst>
              <a:gd name="adj" fmla="val 50000"/>
            </a:avLst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5" name=""/>
          <p:cNvSpPr/>
          <p:nvPr/>
        </p:nvSpPr>
        <p:spPr>
          <a:xfrm>
            <a:off x="3225960" y="4000680"/>
            <a:ext cx="1269720" cy="1269720"/>
          </a:xfrm>
          <a:prstGeom prst="triangle">
            <a:avLst>
              <a:gd name="adj" fmla="val 50000"/>
            </a:avLst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6" name=""/>
          <p:cNvSpPr/>
          <p:nvPr/>
        </p:nvSpPr>
        <p:spPr>
          <a:xfrm>
            <a:off x="1828800" y="5372280"/>
            <a:ext cx="1270080" cy="1269720"/>
          </a:xfrm>
          <a:prstGeom prst="triangle">
            <a:avLst>
              <a:gd name="adj" fmla="val 50000"/>
            </a:avLst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7" name=""/>
          <p:cNvSpPr/>
          <p:nvPr/>
        </p:nvSpPr>
        <p:spPr>
          <a:xfrm>
            <a:off x="3340080" y="5372280"/>
            <a:ext cx="1270080" cy="1269720"/>
          </a:xfrm>
          <a:prstGeom prst="triangle">
            <a:avLst>
              <a:gd name="adj" fmla="val 50000"/>
            </a:avLst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8" name=""/>
          <p:cNvSpPr/>
          <p:nvPr/>
        </p:nvSpPr>
        <p:spPr>
          <a:xfrm>
            <a:off x="4965840" y="4000680"/>
            <a:ext cx="1269720" cy="1269720"/>
          </a:xfrm>
          <a:prstGeom prst="ellipse">
            <a:avLst/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9" name=""/>
          <p:cNvSpPr/>
          <p:nvPr/>
        </p:nvSpPr>
        <p:spPr>
          <a:xfrm>
            <a:off x="4965840" y="5499000"/>
            <a:ext cx="1269720" cy="1270080"/>
          </a:xfrm>
          <a:prstGeom prst="ellipse">
            <a:avLst/>
          </a:prstGeom>
          <a:solidFill>
            <a:srgbClr val="b3111b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0" name=""/>
          <p:cNvSpPr/>
          <p:nvPr/>
        </p:nvSpPr>
        <p:spPr>
          <a:xfrm>
            <a:off x="5742000" y="254880"/>
            <a:ext cx="42786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hapes   6 + 6+6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riangles 4 + 4 +4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066320" y="-406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otential proble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3784680" y="2311560"/>
          <a:ext cx="5016240" cy="5118120"/>
        </p:xfrm>
        <a:graphic>
          <a:graphicData uri="http://schemas.openxmlformats.org/drawingml/2006/table">
            <a:tbl>
              <a:tblPr/>
              <a:tblGrid>
                <a:gridCol w="1671840"/>
                <a:gridCol w="1672560"/>
                <a:gridCol w="1671840"/>
              </a:tblGrid>
              <a:tr h="2558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hap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riangles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etween think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4" name=""/>
          <p:cNvSpPr/>
          <p:nvPr/>
        </p:nvSpPr>
        <p:spPr>
          <a:xfrm>
            <a:off x="4996800" y="2937240"/>
            <a:ext cx="30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4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5" name=""/>
          <p:cNvSpPr/>
          <p:nvPr/>
        </p:nvSpPr>
        <p:spPr>
          <a:xfrm>
            <a:off x="5003280" y="4181760"/>
            <a:ext cx="30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6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672800" y="3873240"/>
            <a:ext cx="96516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7" name=""/>
          <p:cNvSpPr/>
          <p:nvPr/>
        </p:nvSpPr>
        <p:spPr>
          <a:xfrm>
            <a:off x="7109280" y="2975400"/>
            <a:ext cx="232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8" name=""/>
          <p:cNvSpPr/>
          <p:nvPr/>
        </p:nvSpPr>
        <p:spPr>
          <a:xfrm>
            <a:off x="6921000" y="4181760"/>
            <a:ext cx="61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1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6743160" y="3911760"/>
            <a:ext cx="965160" cy="10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0" name=""/>
          <p:cNvSpPr/>
          <p:nvPr/>
        </p:nvSpPr>
        <p:spPr>
          <a:xfrm>
            <a:off x="6063840" y="3559680"/>
            <a:ext cx="30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=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108000" y="984240"/>
            <a:ext cx="12763440" cy="735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getting acquainte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1" name=""/>
          <p:cNvSpPr/>
          <p:nvPr/>
        </p:nvSpPr>
        <p:spPr>
          <a:xfrm>
            <a:off x="1155600" y="3378240"/>
            <a:ext cx="10134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Gill Sans"/>
                <a:ea typeface="Gill Sans"/>
              </a:rPr>
              <a:t>percents in random order </a:t>
            </a:r>
            <a:endParaRPr b="0" lang="en-US" sz="5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2" name=""/>
          <p:cNvSpPr/>
          <p:nvPr/>
        </p:nvSpPr>
        <p:spPr>
          <a:xfrm>
            <a:off x="647640" y="5435640"/>
            <a:ext cx="123318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  <a:ea typeface="Arial"/>
              </a:rPr>
              <a:t>neighbour to guess which percent is which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ithin think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3" name=""/>
          <p:cNvSpPr/>
          <p:nvPr/>
        </p:nvSpPr>
        <p:spPr>
          <a:xfrm>
            <a:off x="4996800" y="2937240"/>
            <a:ext cx="30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4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4" name=""/>
          <p:cNvSpPr/>
          <p:nvPr/>
        </p:nvSpPr>
        <p:spPr>
          <a:xfrm>
            <a:off x="5003280" y="4143960"/>
            <a:ext cx="30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8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4672800" y="3873240"/>
            <a:ext cx="96516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6" name=""/>
          <p:cNvSpPr/>
          <p:nvPr/>
        </p:nvSpPr>
        <p:spPr>
          <a:xfrm>
            <a:off x="7109280" y="2975400"/>
            <a:ext cx="232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7" name=""/>
          <p:cNvSpPr/>
          <p:nvPr/>
        </p:nvSpPr>
        <p:spPr>
          <a:xfrm>
            <a:off x="6921000" y="4181760"/>
            <a:ext cx="61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1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6743160" y="3911760"/>
            <a:ext cx="965160" cy="10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9" name=""/>
          <p:cNvSpPr/>
          <p:nvPr/>
        </p:nvSpPr>
        <p:spPr>
          <a:xfrm>
            <a:off x="6063840" y="3559680"/>
            <a:ext cx="30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=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>
            <a:off x="1739880" y="-3240"/>
            <a:ext cx="9512280" cy="130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unitiz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2" name=""/>
          <p:cNvSpPr/>
          <p:nvPr/>
        </p:nvSpPr>
        <p:spPr>
          <a:xfrm>
            <a:off x="2425680" y="2692440"/>
            <a:ext cx="1270080" cy="1270080"/>
          </a:xfrm>
          <a:prstGeom prst="rect">
            <a:avLst/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3" name=""/>
          <p:cNvSpPr/>
          <p:nvPr/>
        </p:nvSpPr>
        <p:spPr>
          <a:xfrm>
            <a:off x="5499000" y="2692440"/>
            <a:ext cx="1270080" cy="1270080"/>
          </a:xfrm>
          <a:prstGeom prst="rect">
            <a:avLst/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4241880"/>
            <a:ext cx="1270080" cy="1270080"/>
          </a:xfrm>
          <a:prstGeom prst="triangle">
            <a:avLst>
              <a:gd name="adj" fmla="val 50000"/>
            </a:avLst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5" name=""/>
          <p:cNvSpPr/>
          <p:nvPr/>
        </p:nvSpPr>
        <p:spPr>
          <a:xfrm>
            <a:off x="3137040" y="4241880"/>
            <a:ext cx="1269720" cy="1270080"/>
          </a:xfrm>
          <a:prstGeom prst="triangle">
            <a:avLst>
              <a:gd name="adj" fmla="val 50000"/>
            </a:avLst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6" name=""/>
          <p:cNvSpPr/>
          <p:nvPr/>
        </p:nvSpPr>
        <p:spPr>
          <a:xfrm>
            <a:off x="4673520" y="4241880"/>
            <a:ext cx="1270080" cy="1270080"/>
          </a:xfrm>
          <a:prstGeom prst="triangle">
            <a:avLst>
              <a:gd name="adj" fmla="val 50000"/>
            </a:avLst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7" name=""/>
          <p:cNvSpPr/>
          <p:nvPr/>
        </p:nvSpPr>
        <p:spPr>
          <a:xfrm>
            <a:off x="6210360" y="4241880"/>
            <a:ext cx="1270080" cy="1270080"/>
          </a:xfrm>
          <a:prstGeom prst="triangle">
            <a:avLst>
              <a:gd name="adj" fmla="val 50000"/>
            </a:avLst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8" name=""/>
          <p:cNvSpPr/>
          <p:nvPr/>
        </p:nvSpPr>
        <p:spPr>
          <a:xfrm>
            <a:off x="1320840" y="2247840"/>
            <a:ext cx="3200400" cy="354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46" y="404"/>
                </a:moveTo>
                <a:lnTo>
                  <a:pt x="20477" y="0"/>
                </a:lnTo>
                <a:lnTo>
                  <a:pt x="21600" y="21600"/>
                </a:lnTo>
                <a:lnTo>
                  <a:pt x="0" y="21438"/>
                </a:lnTo>
                <a:lnTo>
                  <a:pt x="2246" y="404"/>
                </a:lnTo>
                <a:close/>
                <a:moveTo>
                  <a:pt x="2246" y="404"/>
                </a:move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ross-muliply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0" name=""/>
          <p:cNvSpPr/>
          <p:nvPr/>
        </p:nvSpPr>
        <p:spPr>
          <a:xfrm>
            <a:off x="4463640" y="3102480"/>
            <a:ext cx="30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4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1" name=""/>
          <p:cNvSpPr/>
          <p:nvPr/>
        </p:nvSpPr>
        <p:spPr>
          <a:xfrm>
            <a:off x="4469760" y="4194720"/>
            <a:ext cx="30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6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2" name=""/>
          <p:cNvSpPr/>
          <p:nvPr/>
        </p:nvSpPr>
        <p:spPr>
          <a:xfrm>
            <a:off x="6717960" y="4296240"/>
            <a:ext cx="61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21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3" name=""/>
          <p:cNvSpPr/>
          <p:nvPr/>
        </p:nvSpPr>
        <p:spPr>
          <a:xfrm>
            <a:off x="6906240" y="3102480"/>
            <a:ext cx="232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4" name=""/>
          <p:cNvSpPr/>
          <p:nvPr/>
        </p:nvSpPr>
        <p:spPr>
          <a:xfrm>
            <a:off x="5695560" y="3813480"/>
            <a:ext cx="30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=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5" name=""/>
          <p:cNvSpPr/>
          <p:nvPr/>
        </p:nvSpPr>
        <p:spPr>
          <a:xfrm>
            <a:off x="4229280" y="3886200"/>
            <a:ext cx="107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6" name=""/>
          <p:cNvSpPr/>
          <p:nvPr/>
        </p:nvSpPr>
        <p:spPr>
          <a:xfrm>
            <a:off x="4463640" y="3102480"/>
            <a:ext cx="30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4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7" name=""/>
          <p:cNvSpPr/>
          <p:nvPr/>
        </p:nvSpPr>
        <p:spPr>
          <a:xfrm>
            <a:off x="6590520" y="4013280"/>
            <a:ext cx="107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/>
          <p:nvPr/>
        </p:nvSpPr>
        <p:spPr>
          <a:xfrm>
            <a:off x="0" y="1314360"/>
            <a:ext cx="45846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is lunch is Papa Bear’s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9" name=""/>
          <p:cNvSpPr/>
          <p:nvPr/>
        </p:nvSpPr>
        <p:spPr>
          <a:xfrm>
            <a:off x="2476440" y="6800760"/>
            <a:ext cx="73152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raw a sandwich that would be just right for Baby Bear. 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5738760" y="698400"/>
            <a:ext cx="395136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330120" y="1746360"/>
            <a:ext cx="1233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"/>
                <a:ea typeface="Gill Sans"/>
              </a:rPr>
              <a:t>How does the picture show that 4/5 is less than 9/10?  </a:t>
            </a: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2" name=""/>
          <p:cNvSpPr/>
          <p:nvPr/>
        </p:nvSpPr>
        <p:spPr>
          <a:xfrm>
            <a:off x="1828800" y="37591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3" name=""/>
          <p:cNvSpPr/>
          <p:nvPr/>
        </p:nvSpPr>
        <p:spPr>
          <a:xfrm>
            <a:off x="914400" y="37591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4" name=""/>
          <p:cNvSpPr/>
          <p:nvPr/>
        </p:nvSpPr>
        <p:spPr>
          <a:xfrm>
            <a:off x="2743200" y="37591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5" name=""/>
          <p:cNvSpPr/>
          <p:nvPr/>
        </p:nvSpPr>
        <p:spPr>
          <a:xfrm>
            <a:off x="3657600" y="37591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6" name=""/>
          <p:cNvSpPr/>
          <p:nvPr/>
        </p:nvSpPr>
        <p:spPr>
          <a:xfrm>
            <a:off x="4597560" y="3835440"/>
            <a:ext cx="711000" cy="698400"/>
          </a:xfrm>
          <a:prstGeom prst="ellipse">
            <a:avLst/>
          </a:prstGeom>
          <a:solidFill>
            <a:srgbClr val="84d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876240" y="4660920"/>
            <a:ext cx="4394160" cy="825480"/>
            <a:chOff x="876240" y="4660920"/>
            <a:chExt cx="4394160" cy="825480"/>
          </a:xfrm>
        </p:grpSpPr>
        <p:sp>
          <p:nvSpPr>
            <p:cNvPr id="1208" name=""/>
            <p:cNvSpPr/>
            <p:nvPr/>
          </p:nvSpPr>
          <p:spPr>
            <a:xfrm>
              <a:off x="876240" y="466092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619440" y="466092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705040" y="466092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90640" y="466092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59400" y="4686480"/>
              <a:ext cx="711000" cy="698400"/>
            </a:xfrm>
            <a:prstGeom prst="ellipse">
              <a:avLst/>
            </a:prstGeom>
            <a:solidFill>
              <a:srgbClr val="84d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7315200" y="3809880"/>
            <a:ext cx="4394160" cy="825480"/>
            <a:chOff x="7315200" y="3809880"/>
            <a:chExt cx="4394160" cy="825480"/>
          </a:xfrm>
        </p:grpSpPr>
        <p:sp>
          <p:nvSpPr>
            <p:cNvPr id="1214" name=""/>
            <p:cNvSpPr/>
            <p:nvPr/>
          </p:nvSpPr>
          <p:spPr>
            <a:xfrm>
              <a:off x="7315200" y="380988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0058400" y="380988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0" y="380988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229600" y="380988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998360" y="3835440"/>
              <a:ext cx="711000" cy="698400"/>
            </a:xfrm>
            <a:prstGeom prst="ellipse">
              <a:avLst/>
            </a:prstGeom>
            <a:solidFill>
              <a:srgbClr val="84d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7302600" y="46609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0" name=""/>
          <p:cNvSpPr/>
          <p:nvPr/>
        </p:nvSpPr>
        <p:spPr>
          <a:xfrm>
            <a:off x="8217000" y="46609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1" name=""/>
          <p:cNvSpPr/>
          <p:nvPr/>
        </p:nvSpPr>
        <p:spPr>
          <a:xfrm>
            <a:off x="9131400" y="46609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2" name=""/>
          <p:cNvSpPr/>
          <p:nvPr/>
        </p:nvSpPr>
        <p:spPr>
          <a:xfrm>
            <a:off x="10045800" y="46609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3" name=""/>
          <p:cNvSpPr/>
          <p:nvPr/>
        </p:nvSpPr>
        <p:spPr>
          <a:xfrm>
            <a:off x="10960200" y="46609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190440" y="996840"/>
            <a:ext cx="12331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"/>
                <a:ea typeface="Gill Sans"/>
              </a:rPr>
              <a:t>How does the picture show that 4/5 is less than 9/10?  </a:t>
            </a: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838080" y="3695760"/>
            <a:ext cx="4394160" cy="825480"/>
            <a:chOff x="838080" y="3695760"/>
            <a:chExt cx="4394160" cy="825480"/>
          </a:xfrm>
        </p:grpSpPr>
        <p:sp>
          <p:nvSpPr>
            <p:cNvPr id="1226" name=""/>
            <p:cNvSpPr/>
            <p:nvPr/>
          </p:nvSpPr>
          <p:spPr>
            <a:xfrm>
              <a:off x="838080" y="369576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81280" y="369576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66880" y="369576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752480" y="369576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21240" y="3721320"/>
              <a:ext cx="711000" cy="698400"/>
            </a:xfrm>
            <a:prstGeom prst="ellipse">
              <a:avLst/>
            </a:prstGeom>
            <a:solidFill>
              <a:srgbClr val="84d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7226280" y="3594240"/>
            <a:ext cx="4394160" cy="825480"/>
            <a:chOff x="7226280" y="3594240"/>
            <a:chExt cx="4394160" cy="825480"/>
          </a:xfrm>
        </p:grpSpPr>
        <p:sp>
          <p:nvSpPr>
            <p:cNvPr id="1232" name=""/>
            <p:cNvSpPr/>
            <p:nvPr/>
          </p:nvSpPr>
          <p:spPr>
            <a:xfrm>
              <a:off x="7226280" y="359424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9969480" y="359424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055080" y="359424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140680" y="3594240"/>
              <a:ext cx="888840" cy="825480"/>
            </a:xfrm>
            <a:prstGeom prst="pie">
              <a:avLst/>
            </a:prstGeom>
            <a:solidFill>
              <a:srgbClr val="f3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909440" y="3619800"/>
              <a:ext cx="711000" cy="698400"/>
            </a:xfrm>
            <a:prstGeom prst="ellipse">
              <a:avLst/>
            </a:prstGeom>
            <a:solidFill>
              <a:srgbClr val="84d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7302600" y="46609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8" name=""/>
          <p:cNvSpPr/>
          <p:nvPr/>
        </p:nvSpPr>
        <p:spPr>
          <a:xfrm>
            <a:off x="8217000" y="46609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9" name=""/>
          <p:cNvSpPr/>
          <p:nvPr/>
        </p:nvSpPr>
        <p:spPr>
          <a:xfrm>
            <a:off x="9131400" y="46609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0" name=""/>
          <p:cNvSpPr/>
          <p:nvPr/>
        </p:nvSpPr>
        <p:spPr>
          <a:xfrm>
            <a:off x="10045800" y="46609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1" name=""/>
          <p:cNvSpPr/>
          <p:nvPr/>
        </p:nvSpPr>
        <p:spPr>
          <a:xfrm>
            <a:off x="10960200" y="4660920"/>
            <a:ext cx="888840" cy="825480"/>
          </a:xfrm>
          <a:prstGeom prst="pie">
            <a:avLst/>
          </a:prstGeom>
          <a:solidFill>
            <a:srgbClr val="f3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228600" y="1130400"/>
            <a:ext cx="1300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Gill Sans"/>
                <a:ea typeface="Gill Sans"/>
              </a:rPr>
              <a:t>which changed more?</a:t>
            </a: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1397160" y="3568680"/>
            <a:ext cx="13004640" cy="2616120"/>
            <a:chOff x="1397160" y="3568680"/>
            <a:chExt cx="13004640" cy="2616120"/>
          </a:xfrm>
        </p:grpSpPr>
        <p:sp>
          <p:nvSpPr>
            <p:cNvPr id="1244" name=""/>
            <p:cNvSpPr/>
            <p:nvPr/>
          </p:nvSpPr>
          <p:spPr>
            <a:xfrm>
              <a:off x="1397160" y="3568680"/>
              <a:ext cx="13004640" cy="26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3"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1          5      vs</a:t>
              </a:r>
              <a:endParaRPr b="0" lang="en-US" sz="5500" spc="-1" strike="noStrike">
                <a:solidFill>
                  <a:srgbClr val="ffffff"/>
                </a:solidFill>
                <a:latin typeface="Gill Sans"/>
              </a:endParaRPr>
            </a:p>
            <a:p>
              <a:pPr lvl="2"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96          106 </a:t>
              </a:r>
              <a:endParaRPr b="0" lang="en-US" sz="5500" spc="-1" strike="noStrike">
                <a:solidFill>
                  <a:srgbClr val="ffffff"/>
                </a:solidFill>
                <a:latin typeface="Gill Sans"/>
              </a:endParaRPr>
            </a:p>
            <a:p>
              <a:pPr lvl="1"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772080" y="4533840"/>
              <a:ext cx="1371600" cy="673200"/>
            </a:xfrm>
            <a:prstGeom prst="rightArrow">
              <a:avLst>
                <a:gd name="adj1" fmla="val 32000"/>
                <a:gd name="adj2" fmla="val 83006"/>
              </a:avLst>
            </a:prstGeom>
            <a:gradFill rotWithShape="0">
              <a:gsLst>
                <a:gs pos="0">
                  <a:srgbClr val="074eb3"/>
                </a:gs>
                <a:gs pos="100000">
                  <a:srgbClr val="0b328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772080" y="3759120"/>
              <a:ext cx="1371600" cy="673200"/>
            </a:xfrm>
            <a:prstGeom prst="rightArrow">
              <a:avLst>
                <a:gd name="adj1" fmla="val 32000"/>
                <a:gd name="adj2" fmla="val 83006"/>
              </a:avLst>
            </a:prstGeom>
            <a:gradFill rotWithShape="0">
              <a:gsLst>
                <a:gs pos="0">
                  <a:srgbClr val="074eb3"/>
                </a:gs>
                <a:gs pos="100000">
                  <a:srgbClr val="0b328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00000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1041480" y="-165240"/>
            <a:ext cx="109220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1¢ every time someone in Ontario sneezes, 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how long to become a $1 000 000aire?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48" name="" descr=""/>
          <p:cNvPicPr/>
          <p:nvPr/>
        </p:nvPicPr>
        <p:blipFill>
          <a:blip r:embed="rId1"/>
          <a:stretch/>
        </p:blipFill>
        <p:spPr>
          <a:xfrm>
            <a:off x="1384200" y="2095560"/>
            <a:ext cx="4478400" cy="297180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2"/>
          <a:stretch/>
        </p:blipFill>
        <p:spPr>
          <a:xfrm>
            <a:off x="6515280" y="3257640"/>
            <a:ext cx="5740200" cy="3479760"/>
          </a:xfrm>
          <a:prstGeom prst="rect">
            <a:avLst/>
          </a:prstGeom>
          <a:ln w="0">
            <a:noFill/>
          </a:ln>
        </p:spPr>
      </p:pic>
      <p:pic>
        <p:nvPicPr>
          <p:cNvPr id="1250" name="" descr=""/>
          <p:cNvPicPr/>
          <p:nvPr/>
        </p:nvPicPr>
        <p:blipFill>
          <a:blip r:embed="rId3"/>
          <a:stretch/>
        </p:blipFill>
        <p:spPr>
          <a:xfrm>
            <a:off x="1382760" y="5143680"/>
            <a:ext cx="44798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" descr=""/>
          <p:cNvPicPr/>
          <p:nvPr/>
        </p:nvPicPr>
        <p:blipFill>
          <a:blip r:embed="rId2"/>
          <a:stretch/>
        </p:blipFill>
        <p:spPr>
          <a:xfrm>
            <a:off x="2944800" y="952560"/>
            <a:ext cx="711684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1269720" y="2806560"/>
            <a:ext cx="10464840" cy="412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percent of your daily calorie intake that is snacks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percent of your life that you’ve been a teacher/consultant/etc.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percent of your staff that is under 28.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4" name=""/>
          <p:cNvSpPr/>
          <p:nvPr/>
        </p:nvSpPr>
        <p:spPr>
          <a:xfrm>
            <a:off x="1333440" y="907920"/>
            <a:ext cx="10134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  <a:ea typeface="Gill Sans"/>
              </a:rPr>
              <a:t>Estimate</a:t>
            </a:r>
            <a:r>
              <a:rPr b="0" lang="en-US" sz="5800" spc="-1" strike="noStrike">
                <a:solidFill>
                  <a:srgbClr val="ffffff"/>
                </a:solidFill>
                <a:latin typeface="Gill Sans"/>
                <a:ea typeface="Gill Sans"/>
              </a:rPr>
              <a:t>. </a:t>
            </a:r>
            <a:endParaRPr b="0" lang="en-US" sz="5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833120" cy="358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ffffff"/>
                </a:solidFill>
                <a:latin typeface="Gill Sans"/>
              </a:rPr>
              <a:t>What is </a:t>
            </a:r>
            <a:br>
              <a:rPr sz="8600"/>
            </a:br>
            <a:r>
              <a:rPr b="0" lang="en-US" sz="8600" spc="-1" strike="noStrike">
                <a:solidFill>
                  <a:srgbClr val="ffffff"/>
                </a:solidFill>
                <a:latin typeface="Gill Sans"/>
              </a:rPr>
              <a:t>proportional reasoning?</a:t>
            </a:r>
            <a:endParaRPr b="0" lang="en-US" sz="8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OWN EXAMPLE</a:t>
            </a:r>
            <a:endParaRPr b="0" lang="en-US" sz="66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Different CONTEXT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" descr=""/>
          <p:cNvPicPr/>
          <p:nvPr/>
        </p:nvPicPr>
        <p:blipFill>
          <a:blip r:embed="rId2"/>
          <a:srcRect l="25152" t="0" r="25005" b="0"/>
          <a:stretch/>
        </p:blipFill>
        <p:spPr>
          <a:xfrm>
            <a:off x="7277040" y="2895480"/>
            <a:ext cx="4102200" cy="5461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ast two camp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397480" cy="6527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770400" indent="-468720">
              <a:lnSpc>
                <a:spcPct val="100000"/>
              </a:lnSpc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Gill Sans"/>
              </a:rPr>
              <a:t>focus on big ideas in algebraic thinking and proportional reasoning</a:t>
            </a:r>
            <a:endParaRPr b="0" lang="en-US" sz="3900" spc="-1" strike="noStrike">
              <a:solidFill>
                <a:srgbClr val="ffffff"/>
              </a:solidFill>
              <a:latin typeface="Gill Sans"/>
            </a:endParaRPr>
          </a:p>
          <a:p>
            <a:pPr marL="770400" indent="-468720">
              <a:lnSpc>
                <a:spcPct val="100000"/>
              </a:lnSpc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Gill Sans"/>
              </a:rPr>
              <a:t>focus on using open questions and parallel tasks for DI and richer mathematics </a:t>
            </a: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classroom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ffffff"/>
                </a:solidFill>
                <a:latin typeface="Gill Sans"/>
              </a:rPr>
              <a:t>and now</a:t>
            </a:r>
            <a:endParaRPr b="0" lang="en-US" sz="9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Gill Sans"/>
              </a:rPr>
              <a:t>2011----</a:t>
            </a:r>
            <a:endParaRPr b="0" lang="en-US" sz="61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Gill Sans"/>
              </a:rPr>
              <a:t>focus more on how to respond to student thinking in these areas</a:t>
            </a:r>
            <a:endParaRPr b="0" lang="en-US" sz="6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ig ideas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269720" y="23745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Gill Sans"/>
              </a:rPr>
              <a:t>on the wiki and in the program booklet</a:t>
            </a:r>
            <a:endParaRPr b="0" lang="en-US" sz="61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64800" y="59652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w long?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752120" y="41907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4900" spc="-1" strike="noStrike">
                <a:solidFill>
                  <a:srgbClr val="ffffff"/>
                </a:solidFill>
                <a:latin typeface="Gill Sans"/>
              </a:rPr>
              <a:t>three different ways to compare their lengths. </a:t>
            </a:r>
            <a:endParaRPr b="0" lang="en-US" sz="49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Gill Sans"/>
              </a:rPr>
              <a:t>Which is better? </a:t>
            </a:r>
            <a:endParaRPr b="0" lang="en-US" sz="4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4" name=""/>
          <p:cNvSpPr/>
          <p:nvPr/>
        </p:nvSpPr>
        <p:spPr>
          <a:xfrm>
            <a:off x="4991040" y="3750120"/>
            <a:ext cx="1808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175 c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5" name=""/>
          <p:cNvSpPr/>
          <p:nvPr/>
        </p:nvSpPr>
        <p:spPr>
          <a:xfrm>
            <a:off x="11106360" y="3623040"/>
            <a:ext cx="1503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90 c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1181160" y="2705040"/>
            <a:ext cx="3632040" cy="272412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2"/>
          <a:stretch/>
        </p:blipFill>
        <p:spPr>
          <a:xfrm>
            <a:off x="7594560" y="2968560"/>
            <a:ext cx="331488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4444920" y="2540160"/>
            <a:ext cx="412776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PINNING </a:t>
            </a:r>
            <a:r>
              <a:rPr b="0" lang="en-US" sz="8400" spc="-1" strike="noStrike">
                <a:solidFill>
                  <a:srgbClr val="0044fe"/>
                </a:solidFill>
                <a:latin typeface="Gill Sans"/>
              </a:rPr>
              <a:t>C</a:t>
            </a:r>
            <a:r>
              <a:rPr b="0" lang="en-US" sz="8400" spc="-1" strike="noStrike">
                <a:solidFill>
                  <a:srgbClr val="ff2712"/>
                </a:solidFill>
                <a:latin typeface="Gill Sans"/>
              </a:rPr>
              <a:t>O</a:t>
            </a:r>
            <a:r>
              <a:rPr b="0" lang="en-US" sz="8400" spc="-1" strike="noStrike">
                <a:solidFill>
                  <a:srgbClr val="86cd4d"/>
                </a:solidFill>
                <a:latin typeface="Gill Sans"/>
              </a:rPr>
              <a:t>L</a:t>
            </a:r>
            <a:r>
              <a:rPr b="0" lang="en-US" sz="8400" spc="-1" strike="noStrike">
                <a:solidFill>
                  <a:srgbClr val="8500af"/>
                </a:solidFill>
                <a:latin typeface="Gill Sans"/>
              </a:rPr>
              <a:t>O</a:t>
            </a:r>
            <a:r>
              <a:rPr b="0" lang="en-US" sz="8400" spc="-1" strike="noStrike">
                <a:solidFill>
                  <a:srgbClr val="00bafb"/>
                </a:solidFill>
                <a:latin typeface="Gill Sans"/>
              </a:rPr>
              <a:t>U</a:t>
            </a:r>
            <a:r>
              <a:rPr b="0" lang="en-US" sz="8400" spc="-1" strike="noStrike">
                <a:solidFill>
                  <a:srgbClr val="c97100"/>
                </a:solidFill>
                <a:latin typeface="Gill Sans"/>
              </a:rPr>
              <a:t>R</a:t>
            </a:r>
            <a:r>
              <a:rPr b="0" lang="en-US" sz="8400" spc="-1" strike="noStrike">
                <a:solidFill>
                  <a:srgbClr val="f3eb00"/>
                </a:solidFill>
                <a:latin typeface="Gill Sans"/>
              </a:rPr>
              <a:t>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Work with a partner.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reate a spinner where you are likely to spin 3 more reds than blues in 10 spins.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How many more reds than blues are you likely to spin in 15 spins?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10896480" y="20574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